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7.png" ContentType="image/png"/>
  <Override PartName="/ppt/media/image37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3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sicrome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que 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sicrometria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: estudo das misturas de ar e vapor d´água, isto é, o estudo do ar úmido (no limite, estudo de misturas binárias  nas quais um dos componentes é um vapor condensáv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Do grego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sychro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, isto é, esfriar, resfr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ndensa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590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6080" y="228600"/>
            <a:ext cx="81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riedades (</a:t>
            </a:r>
            <a:r>
              <a:rPr b="1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funções de estado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de misturas de gases ideai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8380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funções de estado de misturas de gases ideais são calculadas com a Lei de Gibbs. Se a mistura atende 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gr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Dalton, pode-se calcular, por exemplo, a entalp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34040" y="1752480"/>
            <a:ext cx="24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 = ΣH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 Σ m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2286000"/>
            <a:ext cx="34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entalpia específic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35840" y="2819520"/>
            <a:ext cx="37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 = ΣH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 m = H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 m = Σ </a:t>
            </a:r>
            <a:r>
              <a:rPr b="1" lang="pt-BR" sz="2400" spc="-1" strike="noStrike">
                <a:solidFill>
                  <a:srgbClr val="0000ff"/>
                </a:solidFill>
                <a:latin typeface="Symbol"/>
                <a:ea typeface="Symbol"/>
              </a:rPr>
              <a:t>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h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581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ainda, o calor específico a pressão constante, isto é, o gradiente da entalpia em relação à temper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7652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85920" y="4495680"/>
                <a:ext cx="63435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 média ponderada pela saturação (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mida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bsoluta de cada um dos componentes da mistura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6095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Entalpia Específica do A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(gás)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Úmido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447920" y="914400"/>
                <a:ext cx="5715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47920" y="1600200"/>
                <a:ext cx="513864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320" y="43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20" y="42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320" y="42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20" y="41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3200400"/>
                <a:ext cx="28209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47920" y="5029200"/>
                <a:ext cx="50958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42760" y="990720"/>
            <a:ext cx="3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2760" y="1905120"/>
            <a:ext cx="3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9080" y="3276720"/>
            <a:ext cx="3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9080" y="3962520"/>
            <a:ext cx="3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9080" y="5105520"/>
            <a:ext cx="33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•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531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Volume Específico do Ar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(gás)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Úmido:</a:t>
            </a:r>
            <a:r>
              <a:rPr b="0" lang="pt-BR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1198440"/>
                <a:ext cx="4876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0080" y="2685960"/>
                <a:ext cx="435132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78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57200" y="48769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do gás (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u do ar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dicada por um termômetro comum, sem condensação na superfície do bulbo, não exposto à radiação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114800"/>
            <a:ext cx="5715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Temperatura de Bulbo Seco (T ou T</a:t>
            </a:r>
            <a:r>
              <a:rPr b="1" lang="pt-BR" sz="2400" spc="-1" strike="noStrike" u="sng" baseline="-25000">
                <a:solidFill>
                  <a:srgbClr val="0000ff"/>
                </a:solidFill>
                <a:uFillTx/>
                <a:latin typeface="Times New Roman"/>
              </a:rPr>
              <a:t>BS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)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280"/>
            <a:ext cx="37861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ff"/>
                </a:solidFill>
                <a:uFillTx/>
                <a:latin typeface="Times New Roman"/>
              </a:rPr>
              <a:t>Saturação Adiabática</a:t>
            </a: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6719" r="0" b="4147"/>
          <a:stretch/>
        </p:blipFill>
        <p:spPr>
          <a:xfrm>
            <a:off x="2895480" y="762120"/>
            <a:ext cx="4800600" cy="319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24000" y="2708280"/>
            <a:ext cx="576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3600" y="3657600"/>
            <a:ext cx="23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turador Adiab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4294080"/>
                <a:ext cx="48769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=</m:t>
                        </m:r>
                      </m:e>
                      <m:lim/>
                    </m:limUp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w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79080" y="419112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finição de entalp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029200"/>
            <a:ext cx="358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ço de massa para o ar se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ço de massa para a ág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ço de energia: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23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19720" y="5154480"/>
                <a:ext cx="1143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3886200" y="5715000"/>
          <a:ext cx="2209680" cy="3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5715000"/>
                    <a:ext cx="2209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809880" y="6248520"/>
          <a:ext cx="2514600" cy="40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6248520"/>
                    <a:ext cx="2514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152280"/>
            <a:ext cx="3786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ff"/>
                </a:solidFill>
                <a:uFillTx/>
                <a:latin typeface="Times New Roman"/>
              </a:rPr>
              <a:t>Saturação Adiabática</a:t>
            </a:r>
            <a:r>
              <a:rPr b="1" lang="pt-BR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pt-B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6719" r="0" b="4147"/>
          <a:stretch/>
        </p:blipFill>
        <p:spPr>
          <a:xfrm>
            <a:off x="5638680" y="609480"/>
            <a:ext cx="3124440" cy="2081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24000" y="2708280"/>
            <a:ext cx="576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438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turador Adiabá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52480" y="4876920"/>
                <a:ext cx="6299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V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V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57200" y="2819520"/>
            <a:ext cx="76201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emissas:     - a mistura é um gás perfe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processo adiabático, Q = 0 e não há trabalho útil, W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a entalpia da água adicionada é muito pequena, então,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o calor sensível do vapor é desprezível frente ao lat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notar que 3 indica a interface água-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9160" y="4343400"/>
            <a:ext cx="1800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m, se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71600" y="5562720"/>
                <a:ext cx="701028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V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V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a de bulbo úmido termodinâmica, ou temperatura de saturação adiabática)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mperatura da água no equipamento ( no saturador adiabático).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Assim, a temperatura de saturação adiabática é uma 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opriedade termodinâmica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228600"/>
            <a:ext cx="3485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uração Adiabátic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9144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á uma única temperatura da água no equipamento que produzirá ar saturado na saída com esta mesma temperatu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4864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mperatura à qual o vapor d´água se condensa quando resfriado a pressão e umidade absoluta constante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87692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mperatura de Orvalho (T</a:t>
            </a:r>
            <a:r>
              <a:rPr b="1" lang="pt-BR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4719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emperatura de Bulbo Úmido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4231" r="0" b="3981"/>
          <a:stretch/>
        </p:blipFill>
        <p:spPr>
          <a:xfrm>
            <a:off x="990720" y="914400"/>
            <a:ext cx="6808680" cy="5227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19680" y="617220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5,0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304920"/>
            <a:ext cx="2743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arta Psicrométrica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833400"/>
            <a:ext cx="8253360" cy="56977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297320" y="2559600"/>
            <a:ext cx="3914640" cy="1801440"/>
            <a:chOff x="4297320" y="2559600"/>
            <a:chExt cx="3914640" cy="1801440"/>
          </a:xfrm>
        </p:grpSpPr>
        <p:sp>
          <p:nvSpPr>
            <p:cNvPr id="176" name=""/>
            <p:cNvSpPr/>
            <p:nvPr/>
          </p:nvSpPr>
          <p:spPr>
            <a:xfrm>
              <a:off x="4297320" y="2760840"/>
              <a:ext cx="3914640" cy="160020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339800">
              <a:off x="4931640" y="2831760"/>
              <a:ext cx="1512720" cy="3988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Arial"/>
                </a:rPr>
                <a:t>Entalp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021200" y="3916440"/>
            <a:ext cx="4172040" cy="1820520"/>
            <a:chOff x="4021200" y="3916440"/>
            <a:chExt cx="4172040" cy="1820520"/>
          </a:xfrm>
        </p:grpSpPr>
        <p:sp>
          <p:nvSpPr>
            <p:cNvPr id="179" name=""/>
            <p:cNvSpPr/>
            <p:nvPr/>
          </p:nvSpPr>
          <p:spPr>
            <a:xfrm>
              <a:off x="4021200" y="3916440"/>
              <a:ext cx="4172040" cy="179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422000">
              <a:off x="5276520" y="4970520"/>
              <a:ext cx="2058840" cy="3682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emperatura B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054320" y="3873600"/>
            <a:ext cx="4073760" cy="365040"/>
            <a:chOff x="4054320" y="3873600"/>
            <a:chExt cx="4073760" cy="365040"/>
          </a:xfrm>
        </p:grpSpPr>
        <p:sp>
          <p:nvSpPr>
            <p:cNvPr id="182" name=""/>
            <p:cNvSpPr/>
            <p:nvPr/>
          </p:nvSpPr>
          <p:spPr>
            <a:xfrm flipV="1">
              <a:off x="4054320" y="3873600"/>
              <a:ext cx="4073760" cy="47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1720" y="3963960"/>
              <a:ext cx="2305080" cy="2746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midade Absolu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420360" y="3921120"/>
            <a:ext cx="741960" cy="2255760"/>
            <a:chOff x="3420360" y="3921120"/>
            <a:chExt cx="741960" cy="2255760"/>
          </a:xfrm>
        </p:grpSpPr>
        <p:sp>
          <p:nvSpPr>
            <p:cNvPr id="185" name=""/>
            <p:cNvSpPr/>
            <p:nvPr/>
          </p:nvSpPr>
          <p:spPr>
            <a:xfrm>
              <a:off x="4021200" y="3921120"/>
              <a:ext cx="141120" cy="215280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021200">
              <a:off x="2806920" y="4953240"/>
              <a:ext cx="1871640" cy="549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Temperatura de 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08600" y="3911760"/>
            <a:ext cx="1748160" cy="2201760"/>
            <a:chOff x="4008600" y="3911760"/>
            <a:chExt cx="1748160" cy="2201760"/>
          </a:xfrm>
        </p:grpSpPr>
        <p:sp>
          <p:nvSpPr>
            <p:cNvPr id="188" name=""/>
            <p:cNvSpPr/>
            <p:nvPr/>
          </p:nvSpPr>
          <p:spPr>
            <a:xfrm>
              <a:off x="4008600" y="3911760"/>
              <a:ext cx="1087200" cy="220176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3772200">
              <a:off x="4422240" y="4959720"/>
              <a:ext cx="1440000" cy="6426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Volume Especí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403280" y="1628640"/>
            <a:ext cx="4176720" cy="3961080"/>
            <a:chOff x="1403280" y="1628640"/>
            <a:chExt cx="4176720" cy="3961080"/>
          </a:xfrm>
        </p:grpSpPr>
        <p:sp>
          <p:nvSpPr>
            <p:cNvPr id="191" name=""/>
            <p:cNvSpPr/>
            <p:nvPr/>
          </p:nvSpPr>
          <p:spPr>
            <a:xfrm>
              <a:off x="1403280" y="1628640"/>
              <a:ext cx="4176720" cy="3961080"/>
            </a:xfrm>
            <a:custGeom>
              <a:avLst/>
              <a:gdLst/>
              <a:ahLst/>
              <a:rect l="l" t="t" r="r" b="b"/>
              <a:pathLst>
                <a:path w="2631" h="2495">
                  <a:moveTo>
                    <a:pt x="0" y="2495"/>
                  </a:moveTo>
                  <a:cubicBezTo>
                    <a:pt x="147" y="2426"/>
                    <a:pt x="625" y="2237"/>
                    <a:pt x="880" y="2082"/>
                  </a:cubicBezTo>
                  <a:cubicBezTo>
                    <a:pt x="1135" y="1927"/>
                    <a:pt x="1334" y="1759"/>
                    <a:pt x="1532" y="1566"/>
                  </a:cubicBezTo>
                  <a:cubicBezTo>
                    <a:pt x="1730" y="1373"/>
                    <a:pt x="1885" y="1187"/>
                    <a:pt x="2068" y="926"/>
                  </a:cubicBezTo>
                  <a:cubicBezTo>
                    <a:pt x="2251" y="665"/>
                    <a:pt x="2514" y="193"/>
                    <a:pt x="2631" y="0"/>
                  </a:cubicBezTo>
                </a:path>
              </a:pathLst>
            </a:custGeom>
            <a:noFill/>
            <a:ln w="507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808800">
              <a:off x="2930400" y="3268800"/>
              <a:ext cx="1513080" cy="703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Linha de Satur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304920"/>
            <a:ext cx="7238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arta Psicrométrica d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mpinas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P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m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édia = 9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5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Pa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4720" y="-10139400"/>
            <a:ext cx="705456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arta_Psicrometrica_Campinas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0240" y="228600"/>
            <a:ext cx="88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arta Psicrométric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 a Pressão Atmosférica Padrão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P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m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60 mmHg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Carta_Psicrometrica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858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plicações da psicrome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trole de clima, em especial em condicionamento de ar para conforto térm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ondensação em superfícies frias (o orvalho sobre a grama em uma manhã fria, a água sobre a superfície externa de um copo de cerveja), et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O resfriamento evapora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Os rastros brancos deixados pelas turbinas dos aviões  </a:t>
            </a:r>
            <a:r>
              <a:rPr b="1" lang="pt-B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447560" y="762120"/>
            <a:ext cx="6019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istura Adiabática de Duas Correntes de Ar Úmido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6842" r="0" b="3455"/>
          <a:stretch/>
        </p:blipFill>
        <p:spPr>
          <a:xfrm>
            <a:off x="1143000" y="1143000"/>
            <a:ext cx="6477120" cy="3278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80880" y="3049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00200" y="5486400"/>
                <a:ext cx="5648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1600" y="4800600"/>
                <a:ext cx="5943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2860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638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quecimento e Resfriamento Sensível,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quecimento e Resfriamento Seco (sem evaporação / condensaçã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10398" r="0" b="4774"/>
          <a:stretch/>
        </p:blipFill>
        <p:spPr>
          <a:xfrm>
            <a:off x="228600" y="1447920"/>
            <a:ext cx="8686800" cy="3467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3352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55800" y="5257800"/>
                <a:ext cx="3327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6095880"/>
                <a:ext cx="49532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52280" y="4952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Eq. da Energia (só calor sensíve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5715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o ar úmido é uma mistura de ar seco e vapor de águ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friamento e Desumidificação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8797" r="0" b="5808"/>
          <a:stretch/>
        </p:blipFill>
        <p:spPr>
          <a:xfrm>
            <a:off x="609480" y="1752480"/>
            <a:ext cx="7925040" cy="3581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520" y="45720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05120" y="5715000"/>
                <a:ext cx="51530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14600" y="175248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00cc"/>
                </a:solidFill>
                <a:latin typeface="Times New Roman"/>
              </a:rPr>
              <a:t>Fator de desvio (“by-pass” coefficient):</a:t>
            </a:r>
            <a:r>
              <a:rPr b="0" lang="pt-BR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19008" r="0" b="19481"/>
          <a:stretch/>
        </p:blipFill>
        <p:spPr>
          <a:xfrm>
            <a:off x="533520" y="2286000"/>
            <a:ext cx="7924680" cy="2571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720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91440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friamento e Desumidificação com desv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936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111480" y="5181480"/>
                <a:ext cx="2959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680" y="2742840"/>
            <a:ext cx="68724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ção da velocidade do 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ação do fator de desv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838080"/>
            <a:ext cx="3862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friamento e Desumidific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tor de desvio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“by-pass coefficient”)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e das características da serpentina, e das condições operacion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981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ição da superfície externa de troca de ca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umento do fator de desv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808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822" t="26945" r="25074" b="14238"/>
          <a:stretch/>
        </p:blipFill>
        <p:spPr>
          <a:xfrm>
            <a:off x="1905120" y="3611520"/>
            <a:ext cx="5257800" cy="3130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086600" y="6248520"/>
            <a:ext cx="17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&gt;&gt; Pizzeti, 19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mportância da 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emperatura de Orvalho (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pt-BR" sz="2400" spc="-1" strike="noStrike" u="sng" baseline="-25000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) e do Fator de Desvio (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</a:t>
            </a:r>
            <a:r>
              <a:rPr b="0" lang="pt-B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) no projeto de sistemas de condicionamento de a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2895480"/>
            <a:ext cx="7345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pt-BR" sz="2800" spc="-1" strike="noStrike">
                <a:solidFill>
                  <a:srgbClr val="0000ff"/>
                </a:solidFill>
                <a:latin typeface="Symbol Set SWA"/>
                <a:ea typeface="Symbol Set SWA"/>
              </a:rPr>
              <a:t>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cação da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mperatura da superfície da serpentina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 da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locidade do ar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queridas para as trocas sensível e latente calculadas em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838080"/>
            <a:ext cx="439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friamento e Desumidific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7012" r="0" b="0"/>
          <a:stretch/>
        </p:blipFill>
        <p:spPr>
          <a:xfrm>
            <a:off x="685800" y="1523880"/>
            <a:ext cx="4952880" cy="396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838080"/>
            <a:ext cx="439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esfriamento e umidific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5791320"/>
                <a:ext cx="4495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iciênci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turação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321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05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quecimento e Umid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6276" r="0" b="2621"/>
          <a:stretch/>
        </p:blipFill>
        <p:spPr>
          <a:xfrm>
            <a:off x="838080" y="1905120"/>
            <a:ext cx="7500960" cy="4019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7200" y="3808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525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quecimento e Desumidifica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DesQuimica" descr=""/>
          <p:cNvPicPr/>
          <p:nvPr/>
        </p:nvPicPr>
        <p:blipFill>
          <a:blip r:embed="rId1"/>
          <a:srcRect l="0" t="3006" r="0" b="0"/>
          <a:stretch/>
        </p:blipFill>
        <p:spPr>
          <a:xfrm>
            <a:off x="152280" y="1600200"/>
            <a:ext cx="5105520" cy="392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3808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ções Psicr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10080" y="2743200"/>
            <a:ext cx="35816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228600"/>
            <a:ext cx="734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22971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31237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Componentes de instalações de ar condicion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Equipamento condicionador (o “ciclo” de refrigeraçã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Dutos de insuflamento ou tubulações de água gelad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Fan coi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Dutos de retor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Dutos de exaustão do ar e renovação de 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Válvulas (VAV) e “damp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Ventiladores, torre de resfria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Filtros, humidificadores, lavadores de 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Medidores de vazão, pressão e temperatura, CLPs, rede de dados, barramento (“bus”), “switch”, computador, Internet (e protocolo de comunicação e softwa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66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6600cc"/>
                </a:solidFill>
                <a:latin typeface="Times New Roman"/>
              </a:rPr>
              <a:t>Sistema de supervisão, controle e gerência: banco de dados e softw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5029200"/>
            <a:ext cx="86868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são parci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pressão que cada componente exerceria se, à mesma temperatura, ocupasse sozinho todo o volume da mistura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6248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finições Fundamentais e Concei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733920"/>
            <a:ext cx="868680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i de Dalton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a pressão total de uma mistura de gases é a soma das pressões parciais de cada um do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9907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 seco e úmid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o ar seco é a mistura dos vários gases que compõem o ar atmosférico, como nitrogênio, oxigênio, gás carbônico e outros, que formam mistura homogênea para uma grande faixa de temperaturas. O ar é úmido quando, além da mistura de gases, tem vapor d'água, que pode saturar à temperaturas ambiente, e então condensar.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26476" t="15189" r="19624" b="14697"/>
          <a:stretch/>
        </p:blipFill>
        <p:spPr>
          <a:xfrm>
            <a:off x="1676520" y="1371600"/>
            <a:ext cx="5900760" cy="4875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8600" y="380880"/>
            <a:ext cx="734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Equipamento autônomo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 (“self-contain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380880"/>
            <a:ext cx="734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Equipamento autônomo</a:t>
            </a:r>
            <a:r>
              <a:rPr b="0" lang="pt-BR" sz="2400" spc="-1" strike="noStrike">
                <a:solidFill>
                  <a:srgbClr val="0000ff"/>
                </a:solidFill>
                <a:latin typeface="Times New Roman"/>
              </a:rPr>
              <a:t> (“self-contain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self1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1952640" cy="3283200"/>
          </a:xfrm>
          <a:prstGeom prst="rect">
            <a:avLst/>
          </a:prstGeom>
          <a:ln w="0">
            <a:noFill/>
          </a:ln>
        </p:spPr>
      </p:pic>
      <p:pic>
        <p:nvPicPr>
          <p:cNvPr id="255" name="self2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3635280" cy="2376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66680" y="48769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Self” de 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5867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Self” de t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2286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Unidade de Resfriamento de Água (“chill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chiller2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2438280" cy="2085840"/>
          </a:xfrm>
          <a:prstGeom prst="rect">
            <a:avLst/>
          </a:prstGeom>
          <a:ln w="0">
            <a:noFill/>
          </a:ln>
        </p:spPr>
      </p:pic>
      <p:pic>
        <p:nvPicPr>
          <p:cNvPr id="260" name="chiller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2819520" cy="2349360"/>
          </a:xfrm>
          <a:prstGeom prst="rect">
            <a:avLst/>
          </a:prstGeom>
          <a:ln w="0">
            <a:noFill/>
          </a:ln>
        </p:spPr>
      </p:pic>
      <p:pic>
        <p:nvPicPr>
          <p:cNvPr id="261" name="chiller4" descr=""/>
          <p:cNvPicPr/>
          <p:nvPr/>
        </p:nvPicPr>
        <p:blipFill>
          <a:blip r:embed="rId3"/>
          <a:stretch/>
        </p:blipFill>
        <p:spPr>
          <a:xfrm>
            <a:off x="2209680" y="3733920"/>
            <a:ext cx="4400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limat1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38840" cy="2706480"/>
          </a:xfrm>
          <a:prstGeom prst="rect">
            <a:avLst/>
          </a:prstGeom>
          <a:ln w="0">
            <a:noFill/>
          </a:ln>
        </p:spPr>
      </p:pic>
      <p:pic>
        <p:nvPicPr>
          <p:cNvPr id="263" name="climat2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4267080" cy="3029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22860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limatizadora (evaporador + ventilador + (des)umidificador + “dampers” + filtros + grelhas/difusor + eq. auxiliares: motor elétrico, motor de passo, variador de frequência, unidade de controle remoto, unidade de controle e lógica, instr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2286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Unidade “Spl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split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2519640" cy="3429000"/>
          </a:xfrm>
          <a:prstGeom prst="rect">
            <a:avLst/>
          </a:prstGeom>
          <a:ln w="0">
            <a:noFill/>
          </a:ln>
        </p:spPr>
      </p:pic>
      <p:pic>
        <p:nvPicPr>
          <p:cNvPr id="267" name="split1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886200" cy="3049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676520" y="48006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Evapo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60199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densador (exte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2286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Torre Resfr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76212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torre de resfriamento é um equipamento de rejeição de calor: rejeita calor para a atmosfera (p/ o ar), resfriando um fluxo de água quente. A água resfriada na torre de resfriamento é usada para resfriar o refrigerante em um condensador, para resfriar a água de refrigeração de uma usina, para resfriar a água que circula em um equipamento qualquer, onde sofre aquecimento, etc, e várias outras aplicaçõ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 resfriamento da água se dá, fundamentalmente, pela transferência de calor latente, a evaporação da á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tower1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419720" cy="2581200"/>
          </a:xfrm>
          <a:prstGeom prst="rect">
            <a:avLst/>
          </a:prstGeom>
          <a:ln w="0">
            <a:noFill/>
          </a:ln>
        </p:spPr>
      </p:pic>
      <p:pic>
        <p:nvPicPr>
          <p:cNvPr id="273" name="tower2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3886200" cy="365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36440" y="2819520"/>
            <a:ext cx="204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quema oper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" y="2286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Torre Resfr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torre_r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3659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52280" y="5334120"/>
            <a:ext cx="861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Laboratório de Térmica e Fluidos temos uma pequena torre de resfriamento instrumentada. Veja a apostila do ensaio em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www.fem.unicamp.br/~em712/em84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533520"/>
            <a:ext cx="82296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ensação de água na compressão do ar:</a:t>
            </a:r>
            <a:br>
              <a:rPr sz="2000"/>
            </a:b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a quantidade de água condensada que resulta do processo de compressão de ar em um conjunto de compressores. O ar é aspirado a 25 ºC, 100 kPa and 50% UR, é então comprimido até 10 Mpa e resfriado para a temperatura ambiente, novamente, e armazenado.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çã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midade absoluta do ar ambiente aspirado pelos compressores é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d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908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38080" y="2895480"/>
                <a:ext cx="73152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Pa</m:t>
                            </m:r>
                          </m:num>
                          <m:den>
                            <m:r>
                              <m:t xml:space="preserve">0,5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P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ar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80880" y="4038480"/>
            <a:ext cx="822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o ar é comprimido pelos compressores, e depois resfriado nos “after-coolers”, para a temperatura ambiente, novamente, atinge a condição de saturação. Assim, a máxima quantidade de água no ar se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752480" y="5029200"/>
                <a:ext cx="5435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Pa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Pa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197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97</m:t>
                    </m:r>
                    <m:r>
                      <m:t xml:space="preserve">[</m:t>
                    </m:r>
                    <m:r>
                      <m:t xml:space="preserve">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ar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3509640" y="152280"/>
            <a:ext cx="210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6095880"/>
            <a:ext cx="830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emente, a água foi condensada em uma quantidade que 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 a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.8 g de água por kg de ar s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685800"/>
            <a:ext cx="8534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quentemente, a água foi condensada em uma quantidade que 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 a 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.8 g de água por kg de ar s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o resultado das equações acima menciona uma quantidade de condensado relativa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massa de ar na entrada, isto é,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 de ar,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invé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 de ar seco, como seria correto. É uma preciosidade conceitual, mas, na realidade,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erença é tão pequena (+/- 1%) qu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uito comum se dizer “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g de a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o invés d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g 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r sec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124080"/>
            <a:ext cx="8915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cagem de ar comprimido é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mente feita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equipamentos chamados de “after-coolers” (um trocador de calor água-ar, por exemplo, de tubos aletado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ainda trocadores bi-tubulares). A água condensada é retirada do trocad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after-cooler”) por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enos de condensado ou purgadores (hoje é comum o “purgador eletrônico”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 exercício acima, o ar será armazenado saturado. Em muitas aplicações, deve-se evitar o uso de ar saturado (em ferramentas pneumáticas, por exemplo, ou n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 a a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roca do dentista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ntista). Assim, nestes casos, o “after-cooler” deve ser projetado para que o ar não seja fornecido saturado, mas sim sim super-aquecido, para que não condense na “ponta” do processo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5335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Obriga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512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Semana que vem tem ma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noções de conforto térm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cálculo de carga térmica,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sistemas de condicionamento de 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4343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ção molar e fração mássic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066680"/>
            <a:ext cx="838224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uma mistura gasosa de c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 = 1,…,c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componentes está contida em um volume V, sua temperatura é T e a pressão, P. Se seu peso molecular é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sua massa é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e seu número de moles é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tem-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 = 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+ 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+ ...+ 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c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= Σ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n = 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+ 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+ ... + 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c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= Σ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ção massica  &gt;&gt; </a:t>
            </a:r>
            <a:r>
              <a:rPr b="1" lang="pt-BR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6600ff"/>
                </a:solidFill>
                <a:latin typeface="Symbol"/>
                <a:ea typeface="Symbol"/>
              </a:rPr>
              <a:t>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= 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/M</a:t>
            </a:r>
            <a:r>
              <a:rPr b="1" lang="pt-BR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ção molar  &gt;&gt; </a:t>
            </a:r>
            <a:r>
              <a:rPr b="1" lang="pt-BR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x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= 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eso molecular é a média ponderada de todos o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Σ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/ Σ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 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= Σx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</a:t>
            </a: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n</a:t>
            </a:r>
            <a:r>
              <a:rPr b="1" lang="pt-BR" sz="2400" spc="-1" strike="noStrike" baseline="-25000">
                <a:solidFill>
                  <a:srgbClr val="6600ff"/>
                </a:solidFill>
                <a:latin typeface="Times New Roman"/>
                <a:ea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s propriedades da mistura são descritas pela combinação (média ponderada) das propriedades dos component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373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i de Dal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dalton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327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67080" y="3343320"/>
            <a:ext cx="609840" cy="17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14600" y="45720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 = 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+ ...+ 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P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410080"/>
            <a:ext cx="853452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sto é, a pressão parcial é a contribuição de cada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na formação da pressão (total) da mistur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8719" t="27543" r="4360" b="14476"/>
          <a:stretch/>
        </p:blipFill>
        <p:spPr>
          <a:xfrm>
            <a:off x="838080" y="609480"/>
            <a:ext cx="7391520" cy="3865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280"/>
            <a:ext cx="2185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i de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4480" y="5105520"/>
            <a:ext cx="737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pressão parcial é exata em misturas de gases ideai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ote então que a Lei de Dalton (ou melhor, </a:t>
            </a:r>
            <a:r>
              <a:rPr b="1" lang="pt-BR" sz="1800" spc="-1" strike="noStrike">
                <a:solidFill>
                  <a:srgbClr val="0000cc"/>
                </a:solidFill>
                <a:latin typeface="Times New Roman"/>
              </a:rPr>
              <a:t>Regra de Dalton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) não é propriamente uma Lei Termodinâmica, pois não se aplica universalmente a todas as misturas gas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&gt;&gt;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só é válida para gases ideais, e quando a mistura também for um gás ideal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T acima é a temperatura de bulbo seco da mistura, a temperatura do gás indicada por um termômetro comum, sem condensação na superfície do bulbo, e também não exposto à radiação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59198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ção do ar seco (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ar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ao nível do m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0573" t="36605" r="8778" b="24699"/>
          <a:stretch/>
        </p:blipFill>
        <p:spPr>
          <a:xfrm>
            <a:off x="838080" y="1752480"/>
            <a:ext cx="7467840" cy="2810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19320" y="57913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atm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N2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 +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O2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 +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Ar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 +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v 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=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ar  </a:t>
            </a: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+  P</a:t>
            </a:r>
            <a:r>
              <a:rPr b="1" lang="pt-BR" sz="3000" spc="-1" strike="noStrike" baseline="-25000">
                <a:solidFill>
                  <a:srgbClr val="0000ff"/>
                </a:solidFill>
                <a:latin typeface="Arial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0292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 pressão atmosférica como a soma da pressão parcial dos vários componentes do ar (admitido como gás perfeito homogêneo) e do vapor de ág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 saturado (ou mistura saturada)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tura de ar seco e vapor de água saturado (estado de equilíbrio entre o ar úmido e as fases líquida e vapor da águ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 nã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turado (ou mistura não-saturada)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tura de ar seco e vapor de água superaque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819520"/>
            <a:ext cx="4876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Umidade (ou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turação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) Absoluta</a:t>
            </a:r>
            <a:r>
              <a:rPr b="1" lang="pt-BR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60600" y="3429000"/>
                <a:ext cx="16941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286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09680" y="4981680"/>
                <a:ext cx="4086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05520" y="4871880"/>
                <a:ext cx="3092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50292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Umidade (ou saturação) Relativa, 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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s_ar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3900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8120" y="49528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agrama T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 para o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4100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A umidade relativa é a razão entre a quantidade de vapor de água existente em um certa massa de ar e aquela que ele teria se estivesse saturado à mesma temperatura. Logo, também é a razão entre P</a:t>
            </a:r>
            <a:r>
              <a:rPr b="1" lang="pt-BR" sz="2000" spc="-1" strike="noStrike" baseline="-25000">
                <a:solidFill>
                  <a:srgbClr val="0000ff"/>
                </a:solidFill>
                <a:latin typeface="Times New Roman"/>
              </a:rPr>
              <a:t>v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e P</a:t>
            </a:r>
            <a:r>
              <a:rPr b="1" lang="pt-BR" sz="2000" spc="-1" strike="noStrike" baseline="-25000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pt-BR" sz="2000" spc="-1" strike="noStrike" baseline="30000">
                <a:solidFill>
                  <a:srgbClr val="0000ff"/>
                </a:solidFill>
                <a:latin typeface="Times New Roman"/>
              </a:rPr>
              <a:t>(t)</a:t>
            </a:r>
            <a:r>
              <a:rPr b="1" lang="pt-BR" sz="20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4:31:32Z</dcterms:created>
  <dc:creator> Marcos Dias</dc:creator>
  <dc:description/>
  <dc:language>en-US</dc:language>
  <cp:lastModifiedBy>Fernando A. Franca</cp:lastModifiedBy>
  <dcterms:modified xsi:type="dcterms:W3CDTF">2005-04-12T22:14:33Z</dcterms:modified>
  <cp:revision>243</cp:revision>
  <dc:subject/>
  <dc:title>Slide 1</dc:title>
</cp:coreProperties>
</file>